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549-F11F-465D-A81B-FAB64F23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981-7ED8-4B7B-A69B-B42D158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F1E-B936-494B-9759-1238EDF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8C1-68D2-49EA-B792-6A7F2E89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8E43-B2FB-4F5C-8428-DC310D32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81AD-62BF-4035-95BF-8283316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9588-BF78-4D2E-A0B8-968F2C4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7A18-0444-450C-895B-79EE3249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D35-E917-4332-B710-8150B4DA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3974-45DD-499E-8921-ED8CCAB8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3153-35B5-4B44-9075-D8AFED7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930-7369-4C0E-84CE-380C0FD8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FA5E-370A-40A0-8A90-2B301D7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E07D-266E-41E4-8A07-DC7465D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6DDC-B673-49A6-A30B-A08D86F6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3803-2C33-4ACB-BBD0-236D8288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95B1-7D02-4D9C-BD96-F7D36804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658-38AA-41E2-BABB-BEBD89E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2E6-6A06-41E4-82AD-C6A76E94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A89-488D-4FA1-B93B-F6AA3DEB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4AC-1ADE-48CB-A113-5B189AA1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3C4-7DCC-4F42-BE41-D7904486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3E4-2D8D-4999-9F9C-7DA1F80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2B3-9A20-48F3-B7DF-F89077F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D0E1-DD70-431F-854A-605B43C5223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36E-46DD-4F16-9838-8C46A6C2FE5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PIRAMIDA HEXAGONAL</a:t>
            </a:r>
            <a:r>
              <a:rPr b="0" lang="ro-RO" sz="4400" spc="-1" strike="noStrike">
                <a:solidFill>
                  <a:srgbClr val="993366"/>
                </a:solidFill>
                <a:latin typeface="Arial Black"/>
              </a:rPr>
              <a:t>Ă 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REGULAT</a:t>
            </a:r>
            <a:r>
              <a:rPr b="0" lang="ro-RO" sz="4400" spc="-1" strike="noStrike">
                <a:solidFill>
                  <a:srgbClr val="993366"/>
                </a:solidFill>
                <a:latin typeface="Arial Black"/>
              </a:rPr>
              <a:t>Ă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6400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an Carolin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sanda Diana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0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b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 C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0" lang="ro-RO" sz="4000" spc="-1" strike="noStrike">
                <a:solidFill>
                  <a:srgbClr val="000000"/>
                </a:solidFill>
                <a:latin typeface="Arial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993366"/>
                </a:solidFill>
                <a:uFillTx/>
                <a:latin typeface="Arial Black"/>
              </a:rPr>
              <a:t>Def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:Piramida hexagonal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ă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 regulat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ă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 este piramida care are baza hexagon,iar 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î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nal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ţ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imea piramidei cade </a:t>
            </a:r>
            <a:r>
              <a:rPr b="0" lang="ro-RO" sz="2400" spc="-1" strike="noStrike">
                <a:solidFill>
                  <a:srgbClr val="993366"/>
                </a:solidFill>
                <a:latin typeface="Arial Black"/>
              </a:rPr>
              <a:t>î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n centrul bazei.</a:t>
            </a:r>
            <a:endParaRPr b="0" lang="en-US" sz="2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743360" cy="5019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 Black"/>
              </a:rPr>
              <a:t>Elementele piramidei hexagonale regulate: </a:t>
            </a:r>
            <a:r>
              <a:rPr b="0" lang="en-US" sz="2000" spc="-1" strike="noStrike">
                <a:solidFill>
                  <a:srgbClr val="993366"/>
                </a:solidFill>
                <a:latin typeface="Arial Black"/>
              </a:rPr>
              <a:t> 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27280" y="691920"/>
            <a:ext cx="453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V- vârful piramide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ABCDEF- hexagon regulat (baza piramide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AB]  [BC] [CD] [DE]  [EF] [AF] (muchiile bazei)  (not. cu 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VA] [VB] [VC]  [VD]  [VE]  [VF] (muchiile laterale) (not.cu 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VO]-înaltimea piramidei (not.cu 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VM]-apotema piramidei (not.cu a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OM]-apotema bazei (not.ab) sau raza cercului înscris bazei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OF]-raza cercului circumscris bazei (not.cu 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AD]- diagonala (mare) a bazei (not.cu d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-[CE] - diagonala (mica) a bazei (not.cu d’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788000" cy="57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 Black"/>
              </a:rPr>
              <a:t>Formulele piramidei hexagonale regulate:</a:t>
            </a:r>
            <a:endParaRPr b="0" lang="en-US" sz="28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9" name="" descr="Piramida hexagonala - formule utile"/>
          <p:cNvPicPr/>
          <p:nvPr/>
        </p:nvPicPr>
        <p:blipFill>
          <a:blip r:embed="rId1"/>
          <a:stretch/>
        </p:blipFill>
        <p:spPr>
          <a:xfrm>
            <a:off x="4462560" y="2133720"/>
            <a:ext cx="4681440" cy="2936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22892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66"/>
                </a:solidFill>
                <a:latin typeface="Blackadder ITC"/>
              </a:rPr>
              <a:t>Probleme</a:t>
            </a:r>
            <a:endParaRPr b="0" lang="en-US" sz="5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2129400"/>
            <a:ext cx="871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.Pentru un spectacol de circ se confecţionează un cort în formă de piramidă hexagonală regulată VABCDEF având muchiile laterale de 13 m şi latura bazei de 10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.Să se afle înălţimea şi apotema piramid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.Calculaţi volumul piramidei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c. Se ştie că metrul pătrat de material folosit costă 13,50 lei şi se cumpără material cu o rezervă de 1 m2. Calculaţi costul materialului, ţinând cont că foaia de cort se foloseşte în strat dub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1:26:35Z</dcterms:created>
  <dc:creator>Carolline</dc:creator>
  <dc:description/>
  <dc:language>en-US</dc:language>
  <cp:lastModifiedBy>Carolline</cp:lastModifiedBy>
  <dcterms:modified xsi:type="dcterms:W3CDTF">2011-02-15T12:13:10Z</dcterms:modified>
  <cp:revision>11</cp:revision>
  <dc:subject/>
  <dc:title>PIRAMIDA HEXAGONALĂ REGULATĂ</dc:title>
</cp:coreProperties>
</file>